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FBDA-466D-4187-AB11-9294C751F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1F47-B30E-4313-811C-542BE32D1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99DB-8D09-4787-8494-83D4FB22A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2D8-E7D1-467C-B9FE-C186C573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FEA-CFD0-41AE-88AD-BD7C9290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31F-7BC3-458D-917B-918E054E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AA3-171B-4E83-A831-D6DA4DC3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412-FFD3-4654-8187-E925957A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154-4289-44D9-9B5F-779E39D4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130-6777-47EC-AC63-CFC71088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752-86EC-46CE-AB01-9FE87EFB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FDC-6E13-4FA4-83DC-EE92A66A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B21-0950-4B62-9F8B-932DD049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F6E2-E3CC-456B-BE2F-6084A7B1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656-119D-4582-8A42-2B8610BC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AB7A-3B8E-46EE-BEC5-6E304B03B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9051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emocionada y content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27" descr=""/>
          <p:cNvPicPr/>
          <p:nvPr/>
        </p:nvPicPr>
        <p:blipFill>
          <a:blip r:embed="rId1"/>
          <a:stretch/>
        </p:blipFill>
        <p:spPr>
          <a:xfrm>
            <a:off x="2736720" y="3529080"/>
            <a:ext cx="4054680" cy="1251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Maninder, si tu puedes comer mis chocolates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 Masiel! ¿Me puede dar un chocolate por favo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aninder, y si yo quiero ir. Te voy manna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 amiga! ¿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3434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ia! Estoy feliz y anciosia para estar contigo hoy! Mi dia es maravilloso hoy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Pero qùe haces, estas lista? Este dia va a estar divertido. Tu eres muy alta so m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Voy a poner botas. Somos como hermanas y te quiero much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7"/>
          <p:cNvSpPr/>
          <p:nvPr/>
        </p:nvSpPr>
        <p:spPr>
          <a:xfrm>
            <a:off x="175248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19051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1981080" y="19051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emocionada y content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27" descr=""/>
          <p:cNvPicPr/>
          <p:nvPr/>
        </p:nvPicPr>
        <p:blipFill>
          <a:blip r:embed="rId1"/>
          <a:stretch/>
        </p:blipFill>
        <p:spPr>
          <a:xfrm>
            <a:off x="2736720" y="3736800"/>
            <a:ext cx="4054680" cy="828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7"/>
          <p:cNvSpPr/>
          <p:nvPr/>
        </p:nvSpPr>
        <p:spPr>
          <a:xfrm>
            <a:off x="2743200" y="327672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también pero yo quiero correr, escribir, usar mi teléfono, aprender com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ocinar, cantar y desayunar porqué tengo mucha hambr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cansada hoy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teléfono es 718-976-9954 y ahora ya no estoy cansada.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2514600" y="5029200"/>
            <a:ext cx="44197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Somos muy buenas amigas no? Estoy escribiendo tu numero. David y Emily están muy contentas porque som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Viejas amigas. Tu eres muy alta también! David y Emily son altos tambié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mos juntas por siempre. Y te extraño. Este perro que compramos te extrañ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2514600" y="5943600"/>
            <a:ext cx="4800600" cy="9144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nemos muchos años juntos por eso te quiero bastante. Tu tienes una buena personalidad. Emily me es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sperando. Sus amigas son simpáticas. Ellas tienen muchas ropa que me gusta. Pero no me aburen, pero quier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cinar.  Y ustedes están aquí! Que felicidad. Voy a usar un libro para leer las ingredientes.  Y usted me va a llamar ahora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Mis amigas me están esperándome para que le cociné algo. Y sus hermanas también puede venir a mi casa pa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Que le haga algo. Pero ellas van a querer a cocinar conmigo. Creo que ellas quieren aprender., cuántos anos ellas tenían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1981080" y="2438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1981080" y="3886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4"/>
          <a:stretch/>
        </p:blipFill>
        <p:spPr>
          <a:xfrm>
            <a:off x="1828800" y="5105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5"/>
          <a:stretch/>
        </p:blipFill>
        <p:spPr>
          <a:xfrm>
            <a:off x="19051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6"/>
          <a:stretch/>
        </p:blipFill>
        <p:spPr>
          <a:xfrm>
            <a:off x="2057400" y="4572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7"/>
          <a:stretch/>
        </p:blipFill>
        <p:spPr>
          <a:xfrm>
            <a:off x="1600200" y="59421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9:51Z</dcterms:modified>
  <cp:revision>116</cp:revision>
  <dc:subject/>
  <dc:title>Profile</dc:title>
</cp:coreProperties>
</file>